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F51-6DF3-4DD4-8922-CD3D03D2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83B-9EF4-4684-96D1-8D716886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647-DC0C-4F1A-89B8-50D09147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025-0A91-4D8F-9F90-620D4E0D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E590-C4D7-4F1E-A109-AF46A903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0FE2-C6E9-4EB5-8BCD-A9F1F765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C3A9-2550-4050-97CE-A95F5C67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2524-D068-4471-A4A1-8815B807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3A6E-A66B-4FB8-9A88-5DB7E6CD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5975-B0BC-41D2-A2AA-42F7C431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4367-0402-484A-A96D-5583099B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B9F-7EA8-4F79-A078-272F6345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2483-1231-4B8E-A374-DB8A8A60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3603-B0E7-4CEB-998D-08FCDC8F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981C-9408-4552-BCF6-377D080B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E053-C9D7-437E-9B26-33E8CA24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4F3A-9BEC-479F-9C49-EBAC6FE5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2EDD-5CDC-4664-BF9A-C45CD899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B003-C4A7-4008-B0A2-E5063DA4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8351-27E9-4568-97D6-440E120D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4B18-6129-4684-B74E-C138FBE1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F33C-54D5-4239-B3FF-58FA1EFA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F82-C8DD-48EA-83DF-B7851FD3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DD11-476A-40A9-9497-980386C0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52484-92BA-4ABA-B279-1E15BBFE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875C-37F0-44A6-BAD2-65974286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BA20-431B-4C97-972D-5C564C5D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7883-0A61-445F-868E-0A0A310D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2927-510E-47BC-956C-106FE18B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A9EA-26E2-4582-B65D-AFF7A42F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8CBF-2FA0-4C99-ACED-66332692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CBEBD-28BE-4F4B-8FC9-EB705F2F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D620-5FDD-44AE-924F-1B183ECF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355-7AD4-4978-9ACD-AFEAB929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B678-2B62-44C9-8BF1-E8222FAC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BF0B-C507-422D-9E47-FDDB7E65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F098-E959-4235-9C4D-B1D3D375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34520-728B-414E-A308-1F863531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4A342-5636-4197-99C9-B88DBEF1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3E1EA-304F-460C-846C-F2830F1E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EEE47-0F5F-4F56-9A4A-35A7ED99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0226-347C-476A-B13B-3DF7564B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2763C-7317-4B81-9C1B-ED3A28B6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ADB41-E6E6-4FAA-B308-01156F9D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14F-0DD3-429D-BF5D-F07BB665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2DA50-F05C-4AC1-A4AF-E9BC89F0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06D4B-C6EB-4F50-9892-14F7E408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3D2E3-BBA1-46F7-A55A-638CF2C1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82F8-E313-4AD8-99A6-860A0FE4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57856-4802-41E9-B058-0D0081E2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A35B-CB71-4C1E-AE4F-09F6D14A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92E32-9F0E-43B5-9E8A-A67B4628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8ECA-CB65-49D7-84D9-A33EA6FE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17D2A-C27C-4195-8E26-5056053B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880D1-6310-4BAB-ADF9-1226CE44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D9A-70D7-441E-A13D-26D3B23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BB6E9-9229-458B-930C-809FAA3B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23A11-6CCE-422E-AEA0-E5861C3A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D3AF1-1605-4A77-9449-EB8F0DA1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C8827-0F2B-481F-99EB-C068CBE5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1C4B0-3C4F-4C91-AD91-7BC1F15C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879D4-7F5B-4ECC-AA65-FC4EE797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2194F-1425-4CC9-9421-B00EAA02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B32B6-B4EA-4047-A800-9C6DA2AB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AAB5E-11BF-4C4A-9F86-FA063C6F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71CEC-68CD-410C-9732-804CFF9F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B83-4058-4DB7-BF5D-034B671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B7078-3E0B-4AEB-A8A1-32812BCE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B5ED-1AA3-4F58-BAD2-A753E62C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E3934-E8EF-4C98-B39F-8C7FC837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02BC8-9B29-4773-B0D6-7D068F0D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A4A73-CF00-448B-A309-39E87811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9D5BD-1EF0-47D1-A34E-20ADA39D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999FD-C3F3-40DF-BA05-61424DD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6DB39-7C79-494C-A152-95FC5C8A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4A3F1-300B-46C6-A1EF-7229734A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A455B-9D25-4C6C-9E45-C18CB118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989-B62F-4DF6-9623-CD39DD60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E870-8482-4EE3-AFC1-E98B7BD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1BD04-C877-4537-8A74-8F22A28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011C5-FC9A-4EC6-94B3-0776E934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B3A22-940B-41A3-9AE2-9E079084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9B7A-8BB2-492C-9042-7B7DDA60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7DD-7666-4FDE-9C7A-4DFAA47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B289-123A-44E6-A7CF-A28577BD7C9E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91A8-A33F-4AE9-9B03-EB81068DF377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1836-68C2-452F-A731-8B548BC6B89D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1024-C310-45C7-8142-887ABDBD3144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F552-B867-4DDD-B778-ECDA1AF6B5F0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D124-F780-4CAB-8D32-FBA9EE6F8D6B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5EAF-22D5-4856-A4B1-04FA8769594B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 Black"/>
              </a:rPr>
              <a:t>Bluff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d6ecff"/>
                </a:solidFill>
                <a:latin typeface="Arial"/>
              </a:rPr>
              <a:t>2nd Year</a:t>
            </a:r>
            <a:r>
              <a:rPr b="0" lang="es-ES_tradnl" sz="2800" spc="-1" strike="noStrike">
                <a:solidFill>
                  <a:srgbClr val="d6ec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d6ecff"/>
                </a:solidFill>
                <a:latin typeface="Arial"/>
              </a:rPr>
              <a:t>5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Create a sentence using a Superlative based on the information provid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Ana tiene 6 años / Marcos tiene 8 años / Elena tiene 10 años </a:t>
            </a: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mayor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Elena es la mayo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28240" y="15998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Create a sentence using a Superlative based on the information provid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fd13b"/>
                </a:solidFill>
                <a:latin typeface="Arial"/>
              </a:rPr>
              <a:t>Andrés es alto / Juanito es bajo / Zacario es bajísimo </a:t>
            </a:r>
            <a:r>
              <a:rPr b="0" lang="es-ES_tradnl" sz="2800" spc="-1" strike="noStrike">
                <a:solidFill>
                  <a:srgbClr val="7fd13b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                      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lto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Andrés es el más al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Andrés es el chico más al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157a"/>
                </a:solidFill>
                <a:latin typeface="Arial"/>
              </a:rPr>
              <a:t>Create a sentence using a Superlative based on the information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d13b"/>
                </a:solidFill>
                <a:latin typeface="Arial"/>
              </a:rPr>
              <a:t>Las zanahorias cuestan 3 Euros / Las cebollas cuestan 4 Euros  / Los tomates cuestan 2 Euros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car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d13b"/>
                </a:solidFill>
                <a:latin typeface="Arial"/>
              </a:rPr>
              <a:t>Las cebollas son las más car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d13b"/>
                </a:solidFill>
                <a:latin typeface="Arial"/>
              </a:rPr>
              <a:t>Las cebollas son las verduras más car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What is the name of the past tense that we have learned this chap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The preter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El preteri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157a"/>
                </a:solidFill>
                <a:latin typeface="Arial"/>
              </a:rPr>
              <a:t>Cierto o Fal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030a0"/>
                </a:solidFill>
                <a:latin typeface="Arial"/>
              </a:rPr>
              <a:t>‘</a:t>
            </a:r>
            <a:r>
              <a:rPr b="0" lang="es-ES_tradnl" sz="4400" spc="-1" strike="noStrike">
                <a:solidFill>
                  <a:srgbClr val="7030a0"/>
                </a:solidFill>
                <a:latin typeface="Arial"/>
              </a:rPr>
              <a:t>Ciento’ is used for numbers greater than 100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fd13b"/>
                </a:solidFill>
                <a:latin typeface="Arial"/>
              </a:rPr>
              <a:t>C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157a"/>
                </a:solidFill>
                <a:latin typeface="Arial"/>
              </a:rPr>
              <a:t>How do verbs ending in –CAR, -GAR, &amp; -ZAR change in the ‘yo’ form of the preteri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C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G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Z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2133720" y="3286080"/>
            <a:ext cx="129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</a:rPr>
              <a:t>Q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</a:rPr>
              <a:t>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are the three endings of verbs that have a spelling change in the ‘yo’ form of the preteri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7fd13b"/>
                </a:solidFill>
                <a:latin typeface="Arial"/>
              </a:rPr>
              <a:t>-Gar / -Car / -Z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8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Ochocientos set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I played the piano and she played the gui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Yo toqué el piano y ella tocó la guitar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9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Novecientos treinta y se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Las Regla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030a0"/>
                </a:solidFill>
                <a:latin typeface="Arial"/>
              </a:rPr>
              <a:t>2 teams / 1 scorekee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Everyone writes every answer fo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addc"/>
                </a:solidFill>
                <a:latin typeface="Arial"/>
              </a:rPr>
              <a:t>If it is your teams turn, stand if you know the answer. If you are called on and answer correctly, your team gets 1 pt. for each person sta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fd13b"/>
                </a:solidFill>
                <a:latin typeface="Arial"/>
              </a:rPr>
              <a:t>You can “bluff” and earn pts. for your team even if you don´t know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030a0"/>
                </a:solidFill>
                <a:latin typeface="Arial"/>
              </a:rPr>
              <a:t>Most points – W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If you are called on and answer incorrectly, the points go to the oth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Find the three mistakes in the se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La año pasado yo buscé mi zapatos por diez min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El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año pasado yo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busqué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mis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zapatos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por diez min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10" descr=""/>
          <p:cNvPicPr/>
          <p:nvPr/>
        </p:nvPicPr>
        <p:blipFill>
          <a:blip r:embed="rId1"/>
          <a:stretch/>
        </p:blipFill>
        <p:spPr>
          <a:xfrm>
            <a:off x="523800" y="3322800"/>
            <a:ext cx="4876920" cy="2030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blackh.DCSD.004\AppData\Local\Microsoft\Windows\Temporary Internet Files\Content.IE5\2N2CEY12\MP900446558[1].jpg"/>
          <p:cNvPicPr/>
          <p:nvPr/>
        </p:nvPicPr>
        <p:blipFill>
          <a:blip r:embed="rId2"/>
          <a:stretch/>
        </p:blipFill>
        <p:spPr>
          <a:xfrm>
            <a:off x="4876920" y="2050920"/>
            <a:ext cx="2952720" cy="3822840"/>
          </a:xfrm>
          <a:prstGeom prst="rect">
            <a:avLst/>
          </a:prstGeom>
          <a:ln w="0">
            <a:noFill/>
          </a:ln>
        </p:spPr>
      </p:pic>
      <p:pic>
        <p:nvPicPr>
          <p:cNvPr id="366" name="Straight Arrow Connector 7" descr=""/>
          <p:cNvPicPr/>
          <p:nvPr/>
        </p:nvPicPr>
        <p:blipFill>
          <a:blip r:embed="rId3"/>
          <a:stretch/>
        </p:blipFill>
        <p:spPr>
          <a:xfrm>
            <a:off x="1384200" y="4091040"/>
            <a:ext cx="5815080" cy="1603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Straight Arrow Connector 5" descr=""/>
          <p:cNvPicPr/>
          <p:nvPr/>
        </p:nvPicPr>
        <p:blipFill>
          <a:blip r:embed="rId1"/>
          <a:stretch/>
        </p:blipFill>
        <p:spPr>
          <a:xfrm>
            <a:off x="1908000" y="4029120"/>
            <a:ext cx="4065840" cy="202392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6" descr=""/>
          <p:cNvPicPr/>
          <p:nvPr/>
        </p:nvPicPr>
        <p:blipFill>
          <a:blip r:embed="rId2"/>
          <a:stretch/>
        </p:blipFill>
        <p:spPr>
          <a:xfrm>
            <a:off x="1305000" y="3425760"/>
            <a:ext cx="3840120" cy="2005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Users\blackh.DCSD.004\AppData\Local\Microsoft\Windows\Temporary Internet Files\Content.IE5\0L7AYIOW\MP900314315[1].jpg"/>
          <p:cNvPicPr/>
          <p:nvPr/>
        </p:nvPicPr>
        <p:blipFill>
          <a:blip r:embed="rId3"/>
          <a:stretch/>
        </p:blipFill>
        <p:spPr>
          <a:xfrm>
            <a:off x="5745240" y="2155680"/>
            <a:ext cx="234792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Straight Arrow Connector 5" descr=""/>
          <p:cNvPicPr/>
          <p:nvPr/>
        </p:nvPicPr>
        <p:blipFill>
          <a:blip r:embed="rId1"/>
          <a:stretch/>
        </p:blipFill>
        <p:spPr>
          <a:xfrm>
            <a:off x="1158840" y="4376880"/>
            <a:ext cx="3687840" cy="117000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6" descr=""/>
          <p:cNvPicPr/>
          <p:nvPr/>
        </p:nvPicPr>
        <p:blipFill>
          <a:blip r:embed="rId2"/>
          <a:stretch/>
        </p:blipFill>
        <p:spPr>
          <a:xfrm>
            <a:off x="457200" y="3767040"/>
            <a:ext cx="4035600" cy="1420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C:\Users\blackh.DCSD.004\AppData\Local\Microsoft\Windows\Temporary Internet Files\Content.IE5\BG1OMNQG\MC900250839[1].wmf"/>
          <p:cNvPicPr/>
          <p:nvPr/>
        </p:nvPicPr>
        <p:blipFill>
          <a:blip r:embed="rId3"/>
          <a:stretch/>
        </p:blipFill>
        <p:spPr>
          <a:xfrm>
            <a:off x="3962520" y="2627280"/>
            <a:ext cx="3965400" cy="2997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What do these three word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a doc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 ki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 pez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Rectangle 4" descr=""/>
          <p:cNvPicPr/>
          <p:nvPr/>
        </p:nvPicPr>
        <p:blipFill>
          <a:blip r:embed="rId1"/>
          <a:stretch/>
        </p:blipFill>
        <p:spPr>
          <a:xfrm>
            <a:off x="3578400" y="2882880"/>
            <a:ext cx="3968640" cy="2847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blackh.DCSD.004\AppData\Local\Microsoft\Windows\Temporary Internet Files\Content.IE5\0L7AYIOW\MC900445692[1].wmf"/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Conjugate the verb </a:t>
            </a: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Limpiar</a:t>
            </a: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 in the preterit in all 6 fo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04920" y="3429000"/>
          <a:ext cx="8458200" cy="210348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</a:t>
                      </a: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am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as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aste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aron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pic>
        <p:nvPicPr>
          <p:cNvPr id="387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xplain the difference between these two seten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ea157a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Yo lavé los tom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ea157a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Yo lavo los tom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157a"/>
                </a:solidFill>
                <a:latin typeface="Arial"/>
              </a:rPr>
              <a:t>¿Cómo se dice en español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030a0"/>
                </a:solidFill>
                <a:latin typeface="Arial"/>
              </a:rPr>
              <a:t>I turned off the ligh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fd13b"/>
                </a:solidFill>
                <a:latin typeface="Arial"/>
              </a:rPr>
              <a:t>Yo apagué la luz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Can you write this in Span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22.987.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Veinte y dos millones, novecientos ochenta y siete mil, ciento cincuenta y cinc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Bluf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95280" y="1676520"/>
          <a:ext cx="6477120" cy="44193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8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are the regular preterit –AR verb ending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905120" y="3809880"/>
          <a:ext cx="5105160" cy="201132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66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e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6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pic>
        <p:nvPicPr>
          <p:cNvPr id="31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ea157a"/>
                </a:solidFill>
                <a:latin typeface="Arial"/>
              </a:rPr>
              <a:t>¿Cómo se dice en español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1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Ciento veinte y s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Ciento veintisé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ea157a"/>
                </a:solidFill>
                <a:latin typeface="Arial"/>
              </a:rPr>
              <a:t>¿Cómo se dice en español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3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Trescientos cuarenta y cinc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Yesterday I bought two on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Ayer yo compré dos cebol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Find the </a:t>
            </a:r>
            <a:r>
              <a:rPr b="0" lang="es-ES_tradnl" sz="2800" spc="-1" strike="noStrike">
                <a:solidFill>
                  <a:srgbClr val="00addc"/>
                </a:solidFill>
                <a:latin typeface="Arial"/>
              </a:rPr>
              <a:t>three</a:t>
            </a: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 mistakes in the following set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Ellos limpiasteis el cocina anteayer y limpiaron la mesa tambéin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Ellos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limpiaron la 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cocina anteayer y limpiaron la mesa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también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does the following  mean in Engli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¡La semana pasada tú cocinaste un almuerzo gran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Last week you cooked a big lunch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14:33Z</dcterms:created>
  <dc:creator>Heather Heffernen</dc:creator>
  <dc:description/>
  <dc:language>en-US</dc:language>
  <cp:lastModifiedBy>Prine, Stephanie</cp:lastModifiedBy>
  <dcterms:modified xsi:type="dcterms:W3CDTF">2012-12-11T20:49:55Z</dcterms:modified>
  <cp:revision>46</cp:revision>
  <dc:subject/>
  <dc:title>Bluff</dc:title>
</cp:coreProperties>
</file>